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AE9-DE1C-4337-B84B-6063CD88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642-92A5-4B54-8EBB-DC22E82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E88-1089-40B0-B0BC-A8EF3D4B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F1A-0228-4FAD-9791-3D08D8D7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5CF-E847-46D9-BCF2-50D8B10B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7DD-7A68-475A-9382-18F6176F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C53-B288-43F4-8CEE-D4BFCC89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DAF-B7B5-4893-9DA3-597B8C36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AC3-390E-4BBF-B6DC-D9E012A5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741-2AFE-4E20-924D-EB9E914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D28-E2B6-4ACB-ABF9-1A616DC8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0B1-3464-42A8-934F-E3EE066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9F3B-F34B-49E0-B909-480D8E66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eoghagan_geometry_assignment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Segment &amp; Angle Bis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If FH bisects &lt;EFG &amp; m&lt;EFG=1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hat is m&lt;EF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85800" y="3809880"/>
            <a:ext cx="2286000" cy="6098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09320" y="1676520"/>
            <a:ext cx="762120" cy="213336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837720" y="2742840"/>
            <a:ext cx="2133720" cy="106668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20968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297180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9112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1981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724280" y="2057400"/>
                <a:ext cx="1905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91120" y="3886200"/>
                <a:ext cx="29718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EF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168960" y="3884760"/>
            <a:ext cx="1143000" cy="68580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04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38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385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38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8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5" dur="38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7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9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38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38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7" dur="38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9" dur="38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38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4" dur="38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6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8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38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3" dur="385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5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7" dur="38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38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38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38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38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3" dur="38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5" dur="38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8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38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2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4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38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9" dur="385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1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3" dur="38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38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8" dur="38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0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2" dur="38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38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385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1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3" dur="38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9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1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3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st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 Solve for 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371600" y="2286000"/>
            <a:ext cx="1143000" cy="22860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71600" y="4419360"/>
            <a:ext cx="2819520" cy="15228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71600" y="2895120"/>
            <a:ext cx="2514600" cy="167652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27800">
            <a:off x="563040" y="3836160"/>
            <a:ext cx="18266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38" y="3"/>
                </a:moveTo>
                <a:arcTo wR="10800" hR="10800" stAng="-5483492" swAng="1661296"/>
                <a:lnTo>
                  <a:pt x="10800" y="10800"/>
                </a:lnTo>
                <a:close/>
              </a:path>
              <a:path fill="none" w="21600" h="21600">
                <a:moveTo>
                  <a:pt x="10538" y="3"/>
                </a:moveTo>
                <a:arcTo wR="10800" hR="10800" stAng="-5483492" swAng="1661296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8120" y="3962520"/>
            <a:ext cx="455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6486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676400">
            <a:off x="1913400" y="3349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4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979000">
            <a:off x="2441520" y="38858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-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6002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f they are congruent, set them equal to each other, then sol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3505320"/>
            <a:ext cx="3352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40=3x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=2x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=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5105520"/>
            <a:ext cx="1143000" cy="60948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38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2" dur="385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4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6" dur="38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38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385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3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5" dur="38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38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385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38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38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385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1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3" dur="38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38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8" dur="385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0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2" dur="38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38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8" dur="385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0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2" dur="38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38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8" dur="385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0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2" dur="38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9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1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3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8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0" dur="38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2" dur="38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4" dur="38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385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38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3" dur="38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5" dur="385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385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2" dur="38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4" dur="38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6" dur="385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385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3" dur="38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5" dur="38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7" dur="385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3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5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7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ways Rememb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they are congruent, then set their measures equal to each ot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8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385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38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38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id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that bisects a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s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s into 2 equal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8006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4643280"/>
            <a:ext cx="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                 M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267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+3                 10x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30532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+3=10x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7360" y="6397560"/>
            <a:ext cx="987120" cy="45720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219320"/>
            <a:ext cx="0" cy="34290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85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38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38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85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38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8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385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8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385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38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38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8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38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38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8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85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85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38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38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385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8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385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38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38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gment Bi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gment, ray, line, or plane that intersects a segment at its mid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114800"/>
            <a:ext cx="5486400" cy="533520"/>
          </a:xfrm>
          <a:prstGeom prst="line">
            <a:avLst/>
          </a:prstGeom>
          <a:ln w="38160">
            <a:solidFill>
              <a:srgbClr val="0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4343400"/>
            <a:ext cx="75960" cy="1522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276720" y="3429000"/>
            <a:ext cx="274320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343400"/>
            <a:ext cx="0" cy="38088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8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38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38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38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8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385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38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38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8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385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8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38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38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8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385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38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ass &amp; Straight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used for creating geometric co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o a project with these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38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38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38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38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85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385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385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385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idpoint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finding the coordinates of the midpoint of a segment in a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ndpoints are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&amp;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4038480"/>
                <a:ext cx="38862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85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38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38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38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85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385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385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385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Find the midpoint of SP if S(-3,-5) &amp; P(5,11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48720" y="4190760"/>
            <a:ext cx="8380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04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1905120"/>
                <a:ext cx="35053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581280" y="3429000"/>
                <a:ext cx="1828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886200" y="502920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581280" y="4800600"/>
            <a:ext cx="1828800" cy="129528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38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385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3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4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6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4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6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8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38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38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midpoint of AB is M(2,4).  One endpoint is A(-1,7).  Find the coordinates of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590920" y="1066680"/>
                <a:ext cx="40384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idpoin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19320" y="2057400"/>
                <a:ext cx="1218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86400" y="205740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066680" y="3048120"/>
                <a:ext cx="13716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562720" y="312408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43000" y="4114800"/>
                <a:ext cx="1219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486400" y="4038480"/>
                <a:ext cx="129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71600" y="4876920"/>
                <a:ext cx="838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67280" y="4876920"/>
                <a:ext cx="762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62520" y="563868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H="1">
            <a:off x="2057400" y="1752480"/>
            <a:ext cx="838080" cy="4572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990720" cy="53352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5334120"/>
            <a:ext cx="1828800" cy="53316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648320" y="5410080"/>
            <a:ext cx="1371600" cy="4572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486400"/>
            <a:ext cx="1066680" cy="762120"/>
          </a:xfrm>
          <a:prstGeom prst="ellipse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152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8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385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38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38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38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38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38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38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8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38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38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38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38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38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38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38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38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38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38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38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8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38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8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38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6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8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y that divides an angle into 2 congruent adjacent 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is an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ector of &lt;A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480" y="3123720"/>
            <a:ext cx="2590920" cy="17528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876920"/>
            <a:ext cx="3200400" cy="99036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9480" y="4495320"/>
            <a:ext cx="3353040" cy="38124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429000"/>
            <a:ext cx="76320" cy="7632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0360" y="4570560"/>
            <a:ext cx="72720" cy="7272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562720"/>
            <a:ext cx="73080" cy="730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638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302800">
            <a:off x="95760" y="4109400"/>
            <a:ext cx="1825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87" y="31"/>
                </a:moveTo>
                <a:arcTo wR="10800" hR="10800" stAng="-5659117" swAng="2220976"/>
                <a:lnTo>
                  <a:pt x="10800" y="10800"/>
                </a:lnTo>
                <a:close/>
              </a:path>
              <a:path fill="none" w="21600" h="21600">
                <a:moveTo>
                  <a:pt x="9987" y="31"/>
                </a:moveTo>
                <a:arcTo wR="10800" hR="10800" stAng="-5659117" swAng="2220976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539200">
            <a:off x="421200" y="4296240"/>
            <a:ext cx="1828440" cy="18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45" y="329"/>
                </a:moveTo>
                <a:arcTo wR="10800" hR="10800" stAng="-4549319" swAng="2623821"/>
                <a:lnTo>
                  <a:pt x="10800" y="10800"/>
                </a:lnTo>
                <a:close/>
              </a:path>
              <a:path fill="none" w="21600" h="21600">
                <a:moveTo>
                  <a:pt x="13445" y="329"/>
                </a:moveTo>
                <a:arcTo wR="10800" hR="10800" stAng="-4549319" swAng="2623821"/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38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385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38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8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38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38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38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38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385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38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8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38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8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38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38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4" dur="385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6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8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7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38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3" dur="38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5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7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6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8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3" dur="38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5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7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385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4" dur="38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6" dur="38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8" dur="38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8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3" dur="385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5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7" dur="38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6:57:20Z</dcterms:created>
  <dc:creator>julie.geoghagan</dc:creator>
  <dc:description/>
  <dc:language>en-US</dc:language>
  <cp:lastModifiedBy>julie.geoghagan</cp:lastModifiedBy>
  <dcterms:modified xsi:type="dcterms:W3CDTF">2005-07-28T17:06:47Z</dcterms:modified>
  <cp:revision>13</cp:revision>
  <dc:subject/>
  <dc:title>1.5 Segment &amp; Angle Bisectors</dc:title>
</cp:coreProperties>
</file>